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6C06-64EA-4EF8-A3D2-6A74AB29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0D77-5879-47A2-A4F0-52CC3139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80A-11CB-41EF-A56F-A2A6F8E7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015A-9B85-46BC-A34D-DED2FE7E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2003-C947-40F3-B085-2D7F3BD3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F4E1-3456-497D-AA07-3E609BDD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D7E8-129F-4D79-9CB6-D590BF0C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D338-C54C-4088-A1C7-46BD2E1E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A5E-B4BF-4482-9661-D6FD8BBA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35A-B513-4154-97FB-BF1B2683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3AE3-7BF5-4657-ADE2-F45C37C0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D65-A343-4478-89DD-92AC9926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08D4-90C6-4D5B-AD31-8BAABDAA0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Arial"/>
              </a:rPr>
              <a:t>Shrinking Arctic 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By: Alexandria Carbona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1771920" cy="2581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152280" y="5029200"/>
            <a:ext cx="2124360" cy="1590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4"/>
          <a:stretch/>
        </p:blipFill>
        <p:spPr>
          <a:xfrm>
            <a:off x="2895480" y="304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5"/>
          <a:stretch/>
        </p:blipFill>
        <p:spPr>
          <a:xfrm>
            <a:off x="6095880" y="380880"/>
            <a:ext cx="221940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6"/>
          <a:stretch/>
        </p:blipFill>
        <p:spPr>
          <a:xfrm>
            <a:off x="5943600" y="5105520"/>
            <a:ext cx="2238480" cy="1504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7"/>
          <a:stretch/>
        </p:blipFill>
        <p:spPr>
          <a:xfrm>
            <a:off x="7162920" y="2514600"/>
            <a:ext cx="1876320" cy="2438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8"/>
          <a:stretch/>
        </p:blipFill>
        <p:spPr>
          <a:xfrm>
            <a:off x="3048120" y="4648320"/>
            <a:ext cx="225720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Wild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sea-ice breakup prematurely separates ringed and harp seal mothers from their pups before the pups are big enough to surv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birds that forage near glaciers and sea ice are losing their feeding grounds and resting places, while thawing permafrost threatens to drain their wetland breeding habit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ean water is changing, turning more acidic from the CO2 int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rctic Ocean is becoming corrosive to shell-building creatures like plankton and clams more quickly than temperate wa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ine ecosystems could collapse as we know them by 20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To Co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long Arctic coastlines, entire villages will be uprooted because they're in danger of being swam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warming will be increased and sped up (no more cooling blank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 levels will rise all over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ther patterns and food production all over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495680" y="56386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9F5DbzRS5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much cheaper non-fossils ways to create 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ew cars that do not use fossil fuels and many other appliances and energy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energy from wind and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ppliances that use less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st is endless. Will you take the challe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Happe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ce in the Arctic is shrinking at and alarming 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Arctic space view"/>
          <p:cNvPicPr/>
          <p:nvPr/>
        </p:nvPicPr>
        <p:blipFill>
          <a:blip r:embed="rId1"/>
          <a:stretch/>
        </p:blipFill>
        <p:spPr>
          <a:xfrm>
            <a:off x="2438280" y="2819520"/>
            <a:ext cx="45720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happe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lobal warm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creasing alb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creasing seasonal 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creasing older thicker 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warming has and continues to cause temperature chan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emperatures increase in the arctic, more ice mel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ore ice melts, there are more melt ponds in the arc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t ponds have low albedo and therefore are not g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be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218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4648320" y="1547640"/>
            <a:ext cx="4038480" cy="2186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41144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lbe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he amount of solar energy reflected from Earth back into spa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ured on a scale of 0-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 is lowest (0) on the scale and white would be highest 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ce in the arctic has high albedo and reflects solar energy back into space (cools of the Ear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re more ice, solar light reflects back into space; cooling the Earth o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re is les ice and more dark sea or melt ponds, solar energy gets absorbed into the Earth and makes it hotter, melting more ice faster and f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lt pon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lt p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pools of melted ice and snow that form on the sea ice when it is warmed in spring and sum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t ponds have low albedo which causes ice to melt even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olar energy is absorbed instead of ref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67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sonal 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2943360" cy="2004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581640" cy="1939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tic has ice that is supposed to be permanent and seasonal ice to protect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onal ice is created over the thinker permanent ice so when summer comes it melt instead of the thicker 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starting to be more and more seasonal ice and less and less older thicker permanent ice that the arctic n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52280" y="1522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cqjO8rwB-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lting arctic ice is affecting native people, wildlife and pl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Ward Hunt Ice Shelf splintered, the rare freshwater lake it enclosed, along with its unique ecosystem, drained into the oce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ar bears, whales, walrus and seals are changing their feeding and migratio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make it harder for native people to hunt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ch bark beetles are breading faster in the warmer weather in Ala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 b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24148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sizes decrea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 ice platforms moving farther apart and swimming conditions more dangerous (drow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hunting opportunities and increased scarcity of fo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you know? Polar bears kill cubs to bring females back in heat like lions; but recently there have been cases of cannibalism spo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4:12:32Z</dcterms:created>
  <dc:creator>SASD</dc:creator>
  <dc:description/>
  <dc:language>en-US</dc:language>
  <cp:lastModifiedBy>PA Department of Education Classrooms for the Future</cp:lastModifiedBy>
  <dcterms:modified xsi:type="dcterms:W3CDTF">2011-02-23T14:13:34Z</dcterms:modified>
  <cp:revision>11</cp:revision>
  <dc:subject/>
  <dc:title>Shrinking Arctic Ices</dc:title>
</cp:coreProperties>
</file>